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196CA-DC41-4005-B330-2A744EED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88093-0315-4CA2-AAD8-CA0E5887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423DF-D927-499A-B9E1-4BD39DAF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D3D73-694A-4B46-9528-89A747C6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AF73A-CBC7-4A83-B787-DFDD1247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1D567-911A-4C36-95E9-B57AC7E2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95CD7-6372-4664-8609-CA0A4378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C66D7-0D96-47A7-998B-C8EB57F9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8B2C6-450D-4128-9745-8F0D702B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E7F3F-E400-4AC7-96E2-866615F4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9FFDE-0108-4119-A2CD-C748D1C3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0A973-6CC7-49E5-A42D-05E6EB6A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Base Infrastructure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Natawut Nupairoj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FC5D-DC30-43B6-820E-301CF0E49C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javaworld.com/javaworld/jw-04-1999/jw-04-xml.html" TargetMode="External"/><Relationship Id="rId2" Type="http://schemas.openxmlformats.org/officeDocument/2006/relationships/hyperlink" Target="http://www.w3schools.com/xml/default.asp" TargetMode="External"/><Relationship Id="rId3" Type="http://schemas.openxmlformats.org/officeDocument/2006/relationships/hyperlink" Target="http://www.corewebprogramming.com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ase Infrastructur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106xx Information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172200"/>
            <a:ext cx="809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of this material are copyright 1996-2002 by J.F Kurose and K.W. Ross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TTP response status cod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2314440"/>
            <a:ext cx="79340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200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succeeded, requested object later in this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1 Moved Perman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 object moved, new location specified later in this message (Location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400 Ba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message not understood by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404 Not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 document not found on thi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505 HTTP Version Not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3800" y="1324080"/>
            <a:ext cx="76867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 first line in server-&gt;client response mess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few sample co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teless Protoc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 is a stateless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request has nothing related to previous or future reques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efit of being statel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for simplicity of web server due to the nature of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onnect-request-reply-disconn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 less resources to support lots of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all users are active at the same tim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can we maintain state for HTTP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o we need to maintain stat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 transactions require user to work with more than one p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gin + view catalog + choose products + enter payment information + confirm + logou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taining states for HTT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 Rewri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k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RL Rewri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931240" cy="64371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56320" y="1143000"/>
            <a:ext cx="8637480" cy="368280"/>
          </a:xfrm>
          <a:prstGeom prst="rect">
            <a:avLst/>
          </a:prstGeom>
          <a:solidFill>
            <a:srgbClr val="fefec6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amazon.com/exec/obidos/subst/home/home.html/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104-2360493-17519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8640" y="4267080"/>
            <a:ext cx="8247600" cy="368280"/>
          </a:xfrm>
          <a:prstGeom prst="rect">
            <a:avLst/>
          </a:prstGeom>
          <a:solidFill>
            <a:srgbClr val="fefec6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amazon.com/gp/browse.html/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104-2360493-175194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node=10365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52280" y="4800600"/>
            <a:ext cx="1752840" cy="457200"/>
          </a:xfrm>
          <a:prstGeom prst="rect">
            <a:avLst/>
          </a:prstGeom>
          <a:noFill/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4920" y="838080"/>
            <a:ext cx="4343400" cy="304920"/>
          </a:xfrm>
          <a:prstGeom prst="rect">
            <a:avLst/>
          </a:prstGeom>
          <a:noFill/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okies: keeping “state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major Web sites use cook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Four compon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cookie header line in the HTTP response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cookie header line in HTTP requ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cookie file kept on user’s host and managed by user’s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back-end database at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2640" y="1719360"/>
            <a:ext cx="403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an access Internet always from same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visits a specific e-commerce site for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nitial HTTP requests arrives at site, site creates a unique ID and creates an entry in backend database for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Cookies: keeping “state” (cont.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179080" y="1424160"/>
            <a:ext cx="4920840" cy="4830120"/>
            <a:chOff x="2179080" y="1424160"/>
            <a:chExt cx="4920840" cy="4830120"/>
          </a:xfrm>
        </p:grpSpPr>
        <p:sp>
          <p:nvSpPr>
            <p:cNvPr id="488" name=""/>
            <p:cNvSpPr/>
            <p:nvPr/>
          </p:nvSpPr>
          <p:spPr>
            <a:xfrm>
              <a:off x="2557080" y="2008080"/>
              <a:ext cx="330516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79080" y="1424160"/>
              <a:ext cx="95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23920" y="144432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95400" y="2008080"/>
              <a:ext cx="2685960" cy="3139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01520" y="199224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585520" y="245556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19240" y="2428560"/>
              <a:ext cx="2504880" cy="5569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39680" y="2392200"/>
              <a:ext cx="2643120" cy="67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sponse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et-cookie: 1678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66800" y="359856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2830320" y="3402000"/>
              <a:ext cx="2681280" cy="673200"/>
              <a:chOff x="2830320" y="3402000"/>
              <a:chExt cx="2681280" cy="673200"/>
            </a:xfrm>
          </p:grpSpPr>
          <p:sp>
            <p:nvSpPr>
              <p:cNvPr id="498" name=""/>
              <p:cNvSpPr/>
              <p:nvPr/>
            </p:nvSpPr>
            <p:spPr>
              <a:xfrm>
                <a:off x="2928600" y="3447720"/>
                <a:ext cx="2505240" cy="55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830320" y="3402000"/>
                <a:ext cx="2681280" cy="67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ual http request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cookie: 167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 flipH="1">
              <a:off x="2556720" y="4084560"/>
              <a:ext cx="330516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2773080" y="4116240"/>
              <a:ext cx="2766960" cy="642600"/>
              <a:chOff x="2773080" y="4116240"/>
              <a:chExt cx="2766960" cy="642600"/>
            </a:xfrm>
          </p:grpSpPr>
          <p:sp>
            <p:nvSpPr>
              <p:cNvPr id="502" name=""/>
              <p:cNvSpPr/>
              <p:nvPr/>
            </p:nvSpPr>
            <p:spPr>
              <a:xfrm>
                <a:off x="2795400" y="4131720"/>
                <a:ext cx="2685960" cy="31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773080" y="4116240"/>
                <a:ext cx="2766960" cy="642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2538000" y="5084640"/>
              <a:ext cx="330516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811240" y="4906800"/>
              <a:ext cx="2681280" cy="673200"/>
              <a:chOff x="2811240" y="4906800"/>
              <a:chExt cx="2681280" cy="673200"/>
            </a:xfrm>
          </p:grpSpPr>
          <p:sp>
            <p:nvSpPr>
              <p:cNvPr id="506" name=""/>
              <p:cNvSpPr/>
              <p:nvPr/>
            </p:nvSpPr>
            <p:spPr>
              <a:xfrm>
                <a:off x="2909520" y="4952880"/>
                <a:ext cx="2505240" cy="55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811240" y="4906800"/>
                <a:ext cx="2681280" cy="67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ual http request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cookie: 167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flipH="1">
              <a:off x="2566440" y="5580000"/>
              <a:ext cx="330516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2782800" y="5611680"/>
              <a:ext cx="2766960" cy="642600"/>
              <a:chOff x="2782800" y="5611680"/>
              <a:chExt cx="2766960" cy="642600"/>
            </a:xfrm>
          </p:grpSpPr>
          <p:sp>
            <p:nvSpPr>
              <p:cNvPr id="510" name=""/>
              <p:cNvSpPr/>
              <p:nvPr/>
            </p:nvSpPr>
            <p:spPr>
              <a:xfrm>
                <a:off x="2805120" y="5627160"/>
                <a:ext cx="2685960" cy="31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82800" y="5611680"/>
                <a:ext cx="2766960" cy="642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5939640" y="3558960"/>
              <a:ext cx="1066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cookie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spe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42160" y="5035320"/>
              <a:ext cx="1157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cookie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spect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9999"/>
                  </a:solidFill>
                  <a:latin typeface="Comic Sans MS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5636160" y="2063880"/>
            <a:ext cx="177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Comic Sans MS"/>
              </a:rPr>
              <a:t>creates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Comic Sans MS"/>
              </a:rPr>
              <a:t>1678 for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8388360" y="3319560"/>
            <a:ext cx="293760" cy="395280"/>
            <a:chOff x="8388360" y="3319560"/>
            <a:chExt cx="293760" cy="395280"/>
          </a:xfrm>
        </p:grpSpPr>
        <p:sp>
          <p:nvSpPr>
            <p:cNvPr id="516" name=""/>
            <p:cNvSpPr/>
            <p:nvPr/>
          </p:nvSpPr>
          <p:spPr>
            <a:xfrm>
              <a:off x="8388360" y="3319560"/>
              <a:ext cx="280800" cy="10980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394480" y="3605400"/>
              <a:ext cx="281160" cy="109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682120" y="33562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88360" y="33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485120" y="2685960"/>
            <a:ext cx="8668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2224800">
            <a:off x="7273800" y="2388960"/>
            <a:ext cx="15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y in back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7107120" y="3614760"/>
            <a:ext cx="1098720" cy="426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20455800">
            <a:off x="7408440" y="37720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7229520" y="3870000"/>
            <a:ext cx="1195200" cy="12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8871200">
            <a:off x="7670880" y="44611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20680" y="3309840"/>
            <a:ext cx="1787400" cy="933120"/>
            <a:chOff x="220680" y="3309840"/>
            <a:chExt cx="1787400" cy="933120"/>
          </a:xfrm>
        </p:grpSpPr>
        <p:sp>
          <p:nvSpPr>
            <p:cNvPr id="527" name=""/>
            <p:cNvSpPr/>
            <p:nvPr/>
          </p:nvSpPr>
          <p:spPr>
            <a:xfrm>
              <a:off x="220680" y="3321000"/>
              <a:ext cx="1787400" cy="914400"/>
            </a:xfrm>
            <a:prstGeom prst="parallelogram">
              <a:avLst>
                <a:gd name="adj" fmla="val 488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399240" y="3309840"/>
              <a:ext cx="1452960" cy="933120"/>
              <a:chOff x="399240" y="3309840"/>
              <a:chExt cx="1452960" cy="933120"/>
            </a:xfrm>
          </p:grpSpPr>
          <p:sp>
            <p:nvSpPr>
              <p:cNvPr id="529" name=""/>
              <p:cNvSpPr/>
              <p:nvPr/>
            </p:nvSpPr>
            <p:spPr>
              <a:xfrm>
                <a:off x="741960" y="3309840"/>
                <a:ext cx="111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okie fi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9240" y="3662280"/>
                <a:ext cx="1326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mazon: 167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bay: 873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287280" y="2057400"/>
            <a:ext cx="1787760" cy="914400"/>
          </a:xfrm>
          <a:prstGeom prst="parallelogram">
            <a:avLst>
              <a:gd name="adj" fmla="val 488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64760" y="2033640"/>
            <a:ext cx="1453680" cy="933120"/>
            <a:chOff x="464760" y="2033640"/>
            <a:chExt cx="1453680" cy="933120"/>
          </a:xfrm>
        </p:grpSpPr>
        <p:sp>
          <p:nvSpPr>
            <p:cNvPr id="533" name=""/>
            <p:cNvSpPr/>
            <p:nvPr/>
          </p:nvSpPr>
          <p:spPr>
            <a:xfrm>
              <a:off x="808200" y="2033640"/>
              <a:ext cx="111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okie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4760" y="2386080"/>
              <a:ext cx="108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bay: 873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262080" y="4989600"/>
            <a:ext cx="1787400" cy="933120"/>
            <a:chOff x="262080" y="4989600"/>
            <a:chExt cx="1787400" cy="933120"/>
          </a:xfrm>
        </p:grpSpPr>
        <p:sp>
          <p:nvSpPr>
            <p:cNvPr id="536" name=""/>
            <p:cNvSpPr/>
            <p:nvPr/>
          </p:nvSpPr>
          <p:spPr>
            <a:xfrm>
              <a:off x="262080" y="5000760"/>
              <a:ext cx="1787400" cy="914400"/>
            </a:xfrm>
            <a:prstGeom prst="parallelogram">
              <a:avLst>
                <a:gd name="adj" fmla="val 488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440640" y="4989600"/>
              <a:ext cx="1452960" cy="933120"/>
              <a:chOff x="440640" y="4989600"/>
              <a:chExt cx="1452960" cy="933120"/>
            </a:xfrm>
          </p:grpSpPr>
          <p:sp>
            <p:nvSpPr>
              <p:cNvPr id="538" name=""/>
              <p:cNvSpPr/>
              <p:nvPr/>
            </p:nvSpPr>
            <p:spPr>
              <a:xfrm>
                <a:off x="783360" y="4989600"/>
                <a:ext cx="111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okie fi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40640" y="5342040"/>
                <a:ext cx="1326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mazon: 167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bay: 873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>
            <a:off x="191520" y="448452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okie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09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What cookies can br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pping c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 session state (Web e-ma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11840" y="1752480"/>
            <a:ext cx="3809880" cy="4307040"/>
          </a:xfrm>
          <a:prstGeom prst="rect">
            <a:avLst/>
          </a:prstGeom>
          <a:noFill/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okies and privac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okies permit sites to learn a lot about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you may supply name and e-mail to 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arch engines use  redirection &amp; cookies to learn yet 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vertising  companies  obtain info across 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37320" y="1523880"/>
            <a:ext cx="81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Comic Sans MS"/>
              </a:rPr>
              <a:t>a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tic vs. Dynamic Pa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-based applications consist of 2 page 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pages: HTML, picture, audio, text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pages: result of search pages, form submission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erve a static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server grabs a static page from a file in the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o Serve a Dynamic P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Gateway Interface (CG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rnal extension (program) for web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mostly to connect to datab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 and per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nter, guest book, graph generat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ut-of-process mod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ng a Dynamic Page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GI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receiving a request, web server starts a new external program to create a dynamic p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 – very sim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 - low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run a new program every time it is being invo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752480" y="1981080"/>
            <a:ext cx="1524240" cy="152424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81480" y="1981080"/>
            <a:ext cx="1524240" cy="15242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Exter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76720" y="2590920"/>
            <a:ext cx="1904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276360" y="2971800"/>
            <a:ext cx="1904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80320" y="220968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 +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660480" y="29718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ic Protoco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Forma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Security (see additional slid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ment Platforms (see additional slid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ng a Dynamic Page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-Proces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process model – include interpreter inside web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_pe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 – f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and chunky web serv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ynamic page has a problem, so does the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362320" y="1447920"/>
            <a:ext cx="2743200" cy="259056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23623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p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28195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715000" y="243828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895480" y="2438280"/>
            <a:ext cx="2514600" cy="685800"/>
          </a:xfrm>
          <a:prstGeom prst="rect">
            <a:avLst/>
          </a:prstGeom>
          <a:solidFill>
            <a:srgbClr val="ffccff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ng a Dynamic Page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ug-in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-in model – separate process (but already star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AppServer through soc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 – combination of both mod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 - complic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371600" y="1981080"/>
            <a:ext cx="1523880" cy="152424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029200" y="1981080"/>
            <a:ext cx="1523880" cy="15242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124080" y="2743200"/>
            <a:ext cx="19051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124080" y="2819520"/>
            <a:ext cx="19051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5680" y="242244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08200" y="281952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16200000">
            <a:off x="2400120" y="2552760"/>
            <a:ext cx="10670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ug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553080" y="2819520"/>
            <a:ext cx="60984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162920" y="243828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2184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 Exchange Forma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V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ed-column form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rietary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 f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-dependent forma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/ ebX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D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ompanies exchange doc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 mail (snail mai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C department store sends an order form to XYZ cloth manufacture via fa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DI: Electronic Data Interchan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ntercompan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mputer-to-compu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munication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tandard business transac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tandard form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D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I X1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/EDIFA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 use it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/Export: Thai Custo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y Chain: retail stores and suppli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pping and Freight: shipping company and shipya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DI – How it 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68440" y="2635200"/>
          <a:ext cx="800568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2635200"/>
                    <a:ext cx="800568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DI – Sample EDI Fi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SA*00* *00* *08*61112500TST *01*DEMO WU000003 *970911*1039*U00302000009561*0*P? GS*PO*611125001I*WU000003 *970911*1039*9784*X*003020 ST*850*397822 BEG*00*RE*194743**970911 REF*AH*M109 REF*DP*641 REF*IA*000100685 DTM*010*970918 N1*BY*92*1287 Nl*ST*92*87447 N1*ZZ*992*1287 PO1*1*1*EA*13.33**CB*80211*IZ*364*UP*71837927164l PO1*1*2*EA*13.33**CB*80211*IZ*382*UP*718379271573 PO1*1*3*EA*13.33**CB*80213*IZ*320*UP*718379271497 PO1*1*4*EA*13.33**CB*80215*IZ*360*UP*718379271848 PO1*1*5*EA*13.33**CB*80215*IZ*364*UP*718379271005 CTT*25 SE*36*397822 GE*1*9784 IEA*1*0000095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-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Markup Languag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ld style communication for edi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ween writer and edi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his are is a mark-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We can more tex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d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, called “Metalanguag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81280" y="41148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192920" y="4572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Protoc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/IP and ot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many mo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908600" y="1876320"/>
            <a:ext cx="3678120" cy="3670560"/>
            <a:chOff x="4908600" y="1876320"/>
            <a:chExt cx="3678120" cy="3670560"/>
          </a:xfrm>
        </p:grpSpPr>
        <p:sp>
          <p:nvSpPr>
            <p:cNvPr id="155" name=""/>
            <p:cNvSpPr/>
            <p:nvPr/>
          </p:nvSpPr>
          <p:spPr>
            <a:xfrm>
              <a:off x="6788160" y="2019240"/>
              <a:ext cx="1798560" cy="167472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08600" y="1876320"/>
              <a:ext cx="1866960" cy="158904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76880" y="3327480"/>
              <a:ext cx="2975040" cy="221940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025960" y="2011320"/>
              <a:ext cx="732960" cy="318960"/>
              <a:chOff x="5025960" y="2011320"/>
              <a:chExt cx="732960" cy="318960"/>
            </a:xfrm>
          </p:grpSpPr>
          <p:pic>
            <p:nvPicPr>
              <p:cNvPr id="1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5960" y="2011320"/>
                <a:ext cx="4161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79560" y="212940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flipV="1">
                <a:off x="5432400" y="225288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025960" y="2606760"/>
              <a:ext cx="732960" cy="318960"/>
              <a:chOff x="5025960" y="2606760"/>
              <a:chExt cx="732960" cy="318960"/>
            </a:xfrm>
          </p:grpSpPr>
          <p:pic>
            <p:nvPicPr>
              <p:cNvPr id="1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5960" y="2606760"/>
                <a:ext cx="4161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79560" y="272484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 flipV="1">
                <a:off x="5432400" y="284832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402160" y="2394000"/>
              <a:ext cx="69480" cy="214200"/>
              <a:chOff x="5402160" y="2394000"/>
              <a:chExt cx="69480" cy="214200"/>
            </a:xfrm>
          </p:grpSpPr>
          <p:sp>
            <p:nvSpPr>
              <p:cNvPr id="167" name=""/>
              <p:cNvSpPr/>
              <p:nvPr/>
            </p:nvSpPr>
            <p:spPr>
              <a:xfrm>
                <a:off x="5402160" y="2394000"/>
                <a:ext cx="64080" cy="601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04680" y="2471040"/>
                <a:ext cx="64080" cy="601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407560" y="2548080"/>
                <a:ext cx="64080" cy="601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872320" y="2897280"/>
              <a:ext cx="209520" cy="394920"/>
              <a:chOff x="5872320" y="2897280"/>
              <a:chExt cx="209520" cy="394920"/>
            </a:xfrm>
          </p:grpSpPr>
          <p:sp>
            <p:nvSpPr>
              <p:cNvPr id="171" name=""/>
              <p:cNvSpPr/>
              <p:nvPr/>
            </p:nvSpPr>
            <p:spPr>
              <a:xfrm>
                <a:off x="5872320" y="320112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78520" y="289980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73400" y="298584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72320" y="289728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81840" y="290340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6005880" y="320112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90320" y="3025800"/>
                <a:ext cx="87840" cy="174960"/>
              </a:xfrm>
              <a:prstGeom prst="rect">
                <a:avLst/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02920" y="307872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108840" y="3050640"/>
              <a:ext cx="233280" cy="81000"/>
              <a:chOff x="6108840" y="3050640"/>
              <a:chExt cx="233280" cy="81000"/>
            </a:xfrm>
          </p:grpSpPr>
          <p:sp>
            <p:nvSpPr>
              <p:cNvPr id="180" name=""/>
              <p:cNvSpPr/>
              <p:nvPr/>
            </p:nvSpPr>
            <p:spPr>
              <a:xfrm rot="16200000">
                <a:off x="6104160" y="3061440"/>
                <a:ext cx="74520" cy="655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200000">
                <a:off x="6188040" y="3058200"/>
                <a:ext cx="74520" cy="655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200000">
                <a:off x="6271920" y="3054960"/>
                <a:ext cx="74520" cy="6552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008760" y="2805120"/>
              <a:ext cx="495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2000" y="2801880"/>
              <a:ext cx="1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07000" y="280044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08520" y="2265480"/>
              <a:ext cx="28908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21480" y="2550960"/>
              <a:ext cx="27612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248520" y="2637000"/>
              <a:ext cx="14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6367320" y="2874960"/>
              <a:ext cx="209520" cy="394920"/>
              <a:chOff x="6367320" y="2874960"/>
              <a:chExt cx="209520" cy="394920"/>
            </a:xfrm>
          </p:grpSpPr>
          <p:sp>
            <p:nvSpPr>
              <p:cNvPr id="190" name=""/>
              <p:cNvSpPr/>
              <p:nvPr/>
            </p:nvSpPr>
            <p:spPr>
              <a:xfrm>
                <a:off x="6367320" y="317880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473520" y="287748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68400" y="296352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367320" y="287496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76840" y="288108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500880" y="317880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385320" y="3003480"/>
                <a:ext cx="87840" cy="174960"/>
              </a:xfrm>
              <a:prstGeom prst="rect">
                <a:avLst/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397920" y="305640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5410080" y="3494160"/>
              <a:ext cx="479160" cy="925200"/>
              <a:chOff x="5410080" y="3494160"/>
              <a:chExt cx="479160" cy="925200"/>
            </a:xfrm>
          </p:grpSpPr>
          <p:pic>
            <p:nvPicPr>
              <p:cNvPr id="1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10080" y="349416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flipV="1">
                <a:off x="5816880" y="37407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0080" y="408888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flipV="1">
                <a:off x="5816880" y="433908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5535360" y="3835440"/>
                <a:ext cx="70560" cy="222480"/>
                <a:chOff x="5535360" y="3835440"/>
                <a:chExt cx="70560" cy="2224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5535360" y="3835440"/>
                  <a:ext cx="65160" cy="62640"/>
                </a:xfrm>
                <a:prstGeom prst="ellips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537880" y="3915360"/>
                  <a:ext cx="65160" cy="62280"/>
                </a:xfrm>
                <a:prstGeom prst="ellips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40760" y="3995640"/>
                  <a:ext cx="65160" cy="62280"/>
                </a:xfrm>
                <a:prstGeom prst="ellipse">
                  <a:avLst/>
                </a:pr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883840" y="3737880"/>
                <a:ext cx="0" cy="60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6278400" y="4503600"/>
              <a:ext cx="4176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8"/>
            <a:stretch/>
          </p:blipFill>
          <p:spPr>
            <a:xfrm>
              <a:off x="5664240" y="4492800"/>
              <a:ext cx="415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 rot="16200000">
              <a:off x="6080760" y="4596480"/>
              <a:ext cx="63360" cy="65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6165720" y="4593960"/>
              <a:ext cx="63720" cy="66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243480" y="4598640"/>
              <a:ext cx="61920" cy="65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532560" y="4449600"/>
              <a:ext cx="1440" cy="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908680" y="4438800"/>
              <a:ext cx="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910120" y="4444920"/>
              <a:ext cx="6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889600" y="4070520"/>
              <a:ext cx="936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91160" y="4116240"/>
              <a:ext cx="30348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286760" y="4113360"/>
              <a:ext cx="27936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9"/>
            <a:stretch/>
          </p:blipFill>
          <p:spPr>
            <a:xfrm>
              <a:off x="7464600" y="3665520"/>
              <a:ext cx="20304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0"/>
            <a:stretch/>
          </p:blipFill>
          <p:spPr>
            <a:xfrm>
              <a:off x="6127920" y="3746520"/>
              <a:ext cx="20304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208560" y="3521160"/>
              <a:ext cx="1354320" cy="30456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475320" y="4943520"/>
              <a:ext cx="406080" cy="426960"/>
              <a:chOff x="6475320" y="4943520"/>
              <a:chExt cx="406080" cy="426960"/>
            </a:xfrm>
          </p:grpSpPr>
          <p:pic>
            <p:nvPicPr>
              <p:cNvPr id="22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75320" y="494352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35080" y="505548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5" name=""/>
            <p:cNvGrpSpPr/>
            <p:nvPr/>
          </p:nvGrpSpPr>
          <p:grpSpPr>
            <a:xfrm>
              <a:off x="7253280" y="4975200"/>
              <a:ext cx="406080" cy="426960"/>
              <a:chOff x="7253280" y="4975200"/>
              <a:chExt cx="406080" cy="426960"/>
            </a:xfrm>
          </p:grpSpPr>
          <p:pic>
            <p:nvPicPr>
              <p:cNvPr id="22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53280" y="497520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13040" y="508716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8" name=""/>
            <p:cNvGrpSpPr/>
            <p:nvPr/>
          </p:nvGrpSpPr>
          <p:grpSpPr>
            <a:xfrm>
              <a:off x="6838920" y="4691160"/>
              <a:ext cx="379440" cy="376200"/>
              <a:chOff x="6838920" y="4691160"/>
              <a:chExt cx="379440" cy="376200"/>
            </a:xfrm>
          </p:grpSpPr>
          <p:pic>
            <p:nvPicPr>
              <p:cNvPr id="22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38920" y="4691160"/>
                <a:ext cx="37944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"/>
              <p:cNvSpPr/>
              <p:nvPr/>
            </p:nvSpPr>
            <p:spPr>
              <a:xfrm>
                <a:off x="6949080" y="4823280"/>
                <a:ext cx="26748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7145280" y="4594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866000" y="4017960"/>
              <a:ext cx="208080" cy="409680"/>
              <a:chOff x="7866000" y="4017960"/>
              <a:chExt cx="208080" cy="409680"/>
            </a:xfrm>
          </p:grpSpPr>
          <p:sp>
            <p:nvSpPr>
              <p:cNvPr id="233" name=""/>
              <p:cNvSpPr/>
              <p:nvPr/>
            </p:nvSpPr>
            <p:spPr>
              <a:xfrm>
                <a:off x="7866000" y="43329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971120" y="402048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867080" y="410976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866000" y="40179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074080" y="40244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7998840" y="43329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883640" y="4151160"/>
                <a:ext cx="87480" cy="181440"/>
              </a:xfrm>
              <a:prstGeom prst="rect">
                <a:avLst/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96240" y="42058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7853400" y="4462560"/>
              <a:ext cx="208080" cy="408960"/>
              <a:chOff x="7853400" y="4462560"/>
              <a:chExt cx="208080" cy="408960"/>
            </a:xfrm>
          </p:grpSpPr>
          <p:sp>
            <p:nvSpPr>
              <p:cNvPr id="242" name=""/>
              <p:cNvSpPr/>
              <p:nvPr/>
            </p:nvSpPr>
            <p:spPr>
              <a:xfrm>
                <a:off x="7853400" y="477720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58520" y="446508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54480" y="4554360"/>
                <a:ext cx="13176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3400" y="446256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61480" y="446904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7986240" y="477720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871040" y="4595760"/>
                <a:ext cx="87480" cy="181080"/>
              </a:xfrm>
              <a:prstGeom prst="rect">
                <a:avLst/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883640" y="46504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 flipV="1">
              <a:off x="7785000" y="4086000"/>
              <a:ext cx="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81760" y="4695840"/>
              <a:ext cx="1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78880" y="4219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6502320" y="2315880"/>
              <a:ext cx="45900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37600" y="2300400"/>
              <a:ext cx="48564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956720" y="2637000"/>
              <a:ext cx="241200" cy="68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86680" y="24130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11880" y="306072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671960" y="3525840"/>
              <a:ext cx="2667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445520" y="2604960"/>
              <a:ext cx="560160" cy="3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454520" y="2044800"/>
              <a:ext cx="35100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8172360" y="2220840"/>
              <a:ext cx="20160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983200" y="2413080"/>
              <a:ext cx="501840" cy="232920"/>
              <a:chOff x="5983200" y="2413080"/>
              <a:chExt cx="501840" cy="232920"/>
            </a:xfrm>
          </p:grpSpPr>
          <p:sp>
            <p:nvSpPr>
              <p:cNvPr id="263" name=""/>
              <p:cNvSpPr/>
              <p:nvPr/>
            </p:nvSpPr>
            <p:spPr>
              <a:xfrm>
                <a:off x="5987160" y="2517120"/>
                <a:ext cx="497520" cy="1288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87160" y="250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85040" y="250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987160" y="2505960"/>
                <a:ext cx="49320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83200" y="2413080"/>
                <a:ext cx="497160" cy="1504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6102720" y="2445840"/>
                <a:ext cx="246240" cy="88200"/>
                <a:chOff x="6102720" y="2445840"/>
                <a:chExt cx="246240" cy="88200"/>
              </a:xfrm>
            </p:grpSpPr>
            <p:sp>
              <p:nvSpPr>
                <p:cNvPr id="269" name=""/>
                <p:cNvSpPr/>
                <p:nvPr/>
              </p:nvSpPr>
              <p:spPr>
                <a:xfrm flipV="1">
                  <a:off x="6102720" y="24458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271560" y="2534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183720" y="24480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02720" y="2445120"/>
                <a:ext cx="246240" cy="88200"/>
                <a:chOff x="6102720" y="2445120"/>
                <a:chExt cx="246240" cy="88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02720" y="2531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271560" y="2445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6183720" y="24451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6935760" y="2184480"/>
              <a:ext cx="501840" cy="232920"/>
              <a:chOff x="6935760" y="2184480"/>
              <a:chExt cx="501840" cy="232920"/>
            </a:xfrm>
          </p:grpSpPr>
          <p:sp>
            <p:nvSpPr>
              <p:cNvPr id="277" name=""/>
              <p:cNvSpPr/>
              <p:nvPr/>
            </p:nvSpPr>
            <p:spPr>
              <a:xfrm>
                <a:off x="6939720" y="2288520"/>
                <a:ext cx="497520" cy="1288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39720" y="2277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437600" y="2277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939720" y="2277360"/>
                <a:ext cx="49320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935760" y="2184480"/>
                <a:ext cx="497160" cy="1504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7055280" y="2217240"/>
                <a:ext cx="246240" cy="88200"/>
                <a:chOff x="7055280" y="2217240"/>
                <a:chExt cx="246240" cy="882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7055280" y="2217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224120" y="2305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136280" y="2219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055280" y="2216520"/>
                <a:ext cx="246240" cy="88200"/>
                <a:chOff x="7055280" y="2216520"/>
                <a:chExt cx="246240" cy="882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055280" y="23029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224120" y="22165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7136280" y="22165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"/>
            <p:cNvGrpSpPr/>
            <p:nvPr/>
          </p:nvGrpSpPr>
          <p:grpSpPr>
            <a:xfrm>
              <a:off x="6953400" y="2841480"/>
              <a:ext cx="501480" cy="233280"/>
              <a:chOff x="6953400" y="2841480"/>
              <a:chExt cx="501480" cy="233280"/>
            </a:xfrm>
          </p:grpSpPr>
          <p:sp>
            <p:nvSpPr>
              <p:cNvPr id="291" name=""/>
              <p:cNvSpPr/>
              <p:nvPr/>
            </p:nvSpPr>
            <p:spPr>
              <a:xfrm>
                <a:off x="6957360" y="2945520"/>
                <a:ext cx="497160" cy="12924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957360" y="29347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454880" y="29347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57360" y="2934720"/>
                <a:ext cx="49284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953400" y="2841480"/>
                <a:ext cx="496800" cy="15084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7072920" y="2874240"/>
                <a:ext cx="246240" cy="88560"/>
                <a:chOff x="7072920" y="2874240"/>
                <a:chExt cx="246240" cy="88560"/>
              </a:xfrm>
            </p:grpSpPr>
            <p:sp>
              <p:nvSpPr>
                <p:cNvPr id="297" name=""/>
                <p:cNvSpPr/>
                <p:nvPr/>
              </p:nvSpPr>
              <p:spPr>
                <a:xfrm flipV="1">
                  <a:off x="7072920" y="2874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241760" y="2962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153920" y="28764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072920" y="2873160"/>
                <a:ext cx="246240" cy="88560"/>
                <a:chOff x="7072920" y="2873160"/>
                <a:chExt cx="246240" cy="885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072920" y="29599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241760" y="28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7153920" y="287316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7923240" y="2392200"/>
              <a:ext cx="500040" cy="233280"/>
              <a:chOff x="7923240" y="2392200"/>
              <a:chExt cx="500040" cy="233280"/>
            </a:xfrm>
          </p:grpSpPr>
          <p:sp>
            <p:nvSpPr>
              <p:cNvPr id="305" name=""/>
              <p:cNvSpPr/>
              <p:nvPr/>
            </p:nvSpPr>
            <p:spPr>
              <a:xfrm>
                <a:off x="7927200" y="2496240"/>
                <a:ext cx="495720" cy="12924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927200" y="24854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423280" y="24854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927200" y="2485440"/>
                <a:ext cx="49140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923240" y="2392200"/>
                <a:ext cx="495360" cy="15084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8042400" y="2424960"/>
                <a:ext cx="245520" cy="88560"/>
                <a:chOff x="8042400" y="2424960"/>
                <a:chExt cx="245520" cy="88560"/>
              </a:xfrm>
            </p:grpSpPr>
            <p:sp>
              <p:nvSpPr>
                <p:cNvPr id="311" name=""/>
                <p:cNvSpPr/>
                <p:nvPr/>
              </p:nvSpPr>
              <p:spPr>
                <a:xfrm flipV="1">
                  <a:off x="8042400" y="24249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8210880" y="25135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123040" y="24271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8042400" y="2423880"/>
                <a:ext cx="245520" cy="88560"/>
                <a:chOff x="8042400" y="2423880"/>
                <a:chExt cx="245520" cy="885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8042400" y="2510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210880" y="24238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8123040" y="242388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8" name=""/>
            <p:cNvGrpSpPr/>
            <p:nvPr/>
          </p:nvGrpSpPr>
          <p:grpSpPr>
            <a:xfrm>
              <a:off x="7729560" y="3289320"/>
              <a:ext cx="501480" cy="232920"/>
              <a:chOff x="7729560" y="3289320"/>
              <a:chExt cx="501480" cy="232920"/>
            </a:xfrm>
          </p:grpSpPr>
          <p:sp>
            <p:nvSpPr>
              <p:cNvPr id="319" name=""/>
              <p:cNvSpPr/>
              <p:nvPr/>
            </p:nvSpPr>
            <p:spPr>
              <a:xfrm>
                <a:off x="7733520" y="3393360"/>
                <a:ext cx="497160" cy="1288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733520" y="33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231040" y="33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733520" y="3382200"/>
                <a:ext cx="49284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729560" y="3289320"/>
                <a:ext cx="496800" cy="1504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7849080" y="3322080"/>
                <a:ext cx="246240" cy="88200"/>
                <a:chOff x="7849080" y="3322080"/>
                <a:chExt cx="246240" cy="88200"/>
              </a:xfrm>
            </p:grpSpPr>
            <p:sp>
              <p:nvSpPr>
                <p:cNvPr id="325" name=""/>
                <p:cNvSpPr/>
                <p:nvPr/>
              </p:nvSpPr>
              <p:spPr>
                <a:xfrm flipV="1">
                  <a:off x="7849080" y="3322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8017920" y="3410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930080" y="3324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7849080" y="3321360"/>
                <a:ext cx="246240" cy="88200"/>
                <a:chOff x="7849080" y="3321360"/>
                <a:chExt cx="246240" cy="882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7849080" y="3407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017920" y="3321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7930080" y="3321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2" name=""/>
            <p:cNvGrpSpPr/>
            <p:nvPr/>
          </p:nvGrpSpPr>
          <p:grpSpPr>
            <a:xfrm>
              <a:off x="7396200" y="3873600"/>
              <a:ext cx="501480" cy="234360"/>
              <a:chOff x="7396200" y="3873600"/>
              <a:chExt cx="501480" cy="234360"/>
            </a:xfrm>
          </p:grpSpPr>
          <p:sp>
            <p:nvSpPr>
              <p:cNvPr id="333" name=""/>
              <p:cNvSpPr/>
              <p:nvPr/>
            </p:nvSpPr>
            <p:spPr>
              <a:xfrm>
                <a:off x="7400160" y="3978000"/>
                <a:ext cx="497160" cy="12996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400160" y="396720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97680" y="396720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400160" y="3967200"/>
                <a:ext cx="492840" cy="7920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96200" y="3873600"/>
                <a:ext cx="496800" cy="15156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7515720" y="3906720"/>
                <a:ext cx="246240" cy="88920"/>
                <a:chOff x="7515720" y="3906720"/>
                <a:chExt cx="246240" cy="88920"/>
              </a:xfrm>
            </p:grpSpPr>
            <p:sp>
              <p:nvSpPr>
                <p:cNvPr id="339" name=""/>
                <p:cNvSpPr/>
                <p:nvPr/>
              </p:nvSpPr>
              <p:spPr>
                <a:xfrm flipV="1">
                  <a:off x="7515720" y="3906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684560" y="3995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596720" y="390888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515720" y="3905640"/>
                <a:ext cx="246240" cy="88920"/>
                <a:chOff x="7515720" y="3905640"/>
                <a:chExt cx="246240" cy="889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7515720" y="3992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684560" y="3905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7596720" y="390564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6786720" y="4362480"/>
              <a:ext cx="500040" cy="232920"/>
              <a:chOff x="6786720" y="4362480"/>
              <a:chExt cx="500040" cy="232920"/>
            </a:xfrm>
          </p:grpSpPr>
          <p:sp>
            <p:nvSpPr>
              <p:cNvPr id="347" name=""/>
              <p:cNvSpPr/>
              <p:nvPr/>
            </p:nvSpPr>
            <p:spPr>
              <a:xfrm>
                <a:off x="6790680" y="4466520"/>
                <a:ext cx="495720" cy="1288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90680" y="4455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86760" y="4455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790680" y="4455360"/>
                <a:ext cx="49140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86720" y="4362480"/>
                <a:ext cx="495360" cy="1504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6905880" y="4395240"/>
                <a:ext cx="245520" cy="88200"/>
                <a:chOff x="6905880" y="4395240"/>
                <a:chExt cx="245520" cy="88200"/>
              </a:xfrm>
            </p:grpSpPr>
            <p:sp>
              <p:nvSpPr>
                <p:cNvPr id="353" name=""/>
                <p:cNvSpPr/>
                <p:nvPr/>
              </p:nvSpPr>
              <p:spPr>
                <a:xfrm flipV="1">
                  <a:off x="6905880" y="43952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74360" y="448344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986520" y="43974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905880" y="4394520"/>
                <a:ext cx="245520" cy="88200"/>
                <a:chOff x="6905880" y="4394520"/>
                <a:chExt cx="245520" cy="882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905880" y="4480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074360" y="43945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6986520" y="43945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0" name=""/>
            <p:cNvGrpSpPr/>
            <p:nvPr/>
          </p:nvGrpSpPr>
          <p:grpSpPr>
            <a:xfrm>
              <a:off x="5983200" y="3986280"/>
              <a:ext cx="501840" cy="232920"/>
              <a:chOff x="5983200" y="3986280"/>
              <a:chExt cx="501840" cy="232920"/>
            </a:xfrm>
          </p:grpSpPr>
          <p:sp>
            <p:nvSpPr>
              <p:cNvPr id="361" name=""/>
              <p:cNvSpPr/>
              <p:nvPr/>
            </p:nvSpPr>
            <p:spPr>
              <a:xfrm>
                <a:off x="5987160" y="4090320"/>
                <a:ext cx="497520" cy="1288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987160" y="4079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485040" y="4079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87160" y="4079160"/>
                <a:ext cx="493200" cy="78840"/>
              </a:xfrm>
              <a:prstGeom prst="rect">
                <a:avLst/>
              </a:prstGeom>
              <a:solidFill>
                <a:srgbClr val="7e9c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983200" y="3986280"/>
                <a:ext cx="497160" cy="150480"/>
              </a:xfrm>
              <a:prstGeom prst="ellipse">
                <a:avLst/>
              </a:prstGeom>
              <a:solidFill>
                <a:srgbClr val="7e9c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6102720" y="4019040"/>
                <a:ext cx="246240" cy="88200"/>
                <a:chOff x="6102720" y="4019040"/>
                <a:chExt cx="246240" cy="88200"/>
              </a:xfrm>
            </p:grpSpPr>
            <p:sp>
              <p:nvSpPr>
                <p:cNvPr id="367" name=""/>
                <p:cNvSpPr/>
                <p:nvPr/>
              </p:nvSpPr>
              <p:spPr>
                <a:xfrm flipV="1">
                  <a:off x="6102720" y="4019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271560" y="4107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183720" y="40212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102720" y="4018320"/>
                <a:ext cx="246240" cy="88200"/>
                <a:chOff x="6102720" y="4018320"/>
                <a:chExt cx="246240" cy="882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102720" y="4104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271560" y="4018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6183720" y="40183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 flipV="1">
              <a:off x="6238800" y="4199040"/>
              <a:ext cx="180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740120" y="1500120"/>
            <a:ext cx="3738600" cy="3984480"/>
            <a:chOff x="4740120" y="1500120"/>
            <a:chExt cx="3738600" cy="3984480"/>
          </a:xfrm>
        </p:grpSpPr>
        <p:grpSp>
          <p:nvGrpSpPr>
            <p:cNvPr id="376" name=""/>
            <p:cNvGrpSpPr/>
            <p:nvPr/>
          </p:nvGrpSpPr>
          <p:grpSpPr>
            <a:xfrm>
              <a:off x="4740120" y="1500120"/>
              <a:ext cx="814320" cy="1012680"/>
              <a:chOff x="4740120" y="1500120"/>
              <a:chExt cx="814320" cy="1012680"/>
            </a:xfrm>
          </p:grpSpPr>
          <p:sp>
            <p:nvSpPr>
              <p:cNvPr id="377" name=""/>
              <p:cNvSpPr/>
              <p:nvPr/>
            </p:nvSpPr>
            <p:spPr>
              <a:xfrm>
                <a:off x="4838400" y="1500120"/>
                <a:ext cx="676440" cy="7765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05280" y="152424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809960" y="152892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40120" y="150516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05280" y="18669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14640" y="20052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14640" y="21430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7664400" y="4367160"/>
              <a:ext cx="814320" cy="1012680"/>
              <a:chOff x="7664400" y="4367160"/>
              <a:chExt cx="814320" cy="1012680"/>
            </a:xfrm>
          </p:grpSpPr>
          <p:sp>
            <p:nvSpPr>
              <p:cNvPr id="385" name=""/>
              <p:cNvSpPr/>
              <p:nvPr/>
            </p:nvSpPr>
            <p:spPr>
              <a:xfrm>
                <a:off x="7762680" y="4367160"/>
                <a:ext cx="676440" cy="7765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729560" y="439128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34240" y="439596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64400" y="4372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729560" y="47340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38920" y="4872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738920" y="501012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5321160" y="4471920"/>
              <a:ext cx="814320" cy="1012680"/>
              <a:chOff x="5321160" y="4471920"/>
              <a:chExt cx="814320" cy="1012680"/>
            </a:xfrm>
          </p:grpSpPr>
          <p:sp>
            <p:nvSpPr>
              <p:cNvPr id="393" name=""/>
              <p:cNvSpPr/>
              <p:nvPr/>
            </p:nvSpPr>
            <p:spPr>
              <a:xfrm>
                <a:off x="5419440" y="4471920"/>
                <a:ext cx="676440" cy="776520"/>
              </a:xfrm>
              <a:prstGeom prst="rect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86320" y="449604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391000" y="450072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321160" y="447696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386320" y="48387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395680" y="49770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395680" y="51148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5524560" y="1619280"/>
              <a:ext cx="2190600" cy="2847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105600" y="4524480"/>
              <a:ext cx="1590480" cy="56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of Computer Markup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Generalized Markup Language (SGM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ther of them al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lex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erText Markup Language (HTM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ost popular chil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cus on presentation: for huma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sible Markup Language (XM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ome increasingly popul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HT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on describing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human and machi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nguage for creating other languag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se syntax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-defined structu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ing used in many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forma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ramming interface descrip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PC protocol forma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“1.0” encoding = “UTF-8”?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dangered_species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nimal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ame language=“English”&gt;Tiger&lt;/na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ame language=“Latin”&gt;pantera tigris&lt;/na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hreats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hreat&gt;poachers&lt;/threat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hreat&gt;habitat destruction&lt;/threat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hreat&gt;trade in tiger bones for traditional Chine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cine(TCM)&lt;/threat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hreats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weight&gt;500 pounds&lt;/weight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ength&gt;3 yards from nose to tail&lt;/length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dangered_species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Siblin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Structure Defi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 Type Definition (DT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 Sch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Par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-related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S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Pa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: tag and cont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name&gt;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Tiger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nam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ibute: name and 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data = Data of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ame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language=“English”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Tiger&lt;/name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ame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language&gt;English&lt;/language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ext&gt;Tiger&lt;/text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name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sted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nimal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ame language=“English”&gt;Tiger&lt;/name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ame language=“Latin”&gt;Panthera tigris&lt;/name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weight&gt;500 pounds&lt;/weight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nimal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ty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nimal&gt;&lt;/animal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nimal /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picture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name=“tiger.jpg”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/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al symb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amp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mpersand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less than sign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greater than sign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quo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double quotation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&amp;apos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single quotation or apostrophe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weight&gt;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&amp;lt;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500 pounds&lt;/weigh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TP Protoc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 on request and response mo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col format is in clear-tex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 is a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“stateless”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c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924440" y="186048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732560" y="2455920"/>
            <a:ext cx="12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lo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019840" y="455616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7498440" y="3836880"/>
            <a:ext cx="136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7910640" y="2725560"/>
            <a:ext cx="504000" cy="1070640"/>
            <a:chOff x="7910640" y="2725560"/>
            <a:chExt cx="504000" cy="1070640"/>
          </a:xfrm>
        </p:grpSpPr>
        <p:sp>
          <p:nvSpPr>
            <p:cNvPr id="409" name=""/>
            <p:cNvSpPr/>
            <p:nvPr/>
          </p:nvSpPr>
          <p:spPr>
            <a:xfrm>
              <a:off x="7910640" y="354888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165880" y="2732400"/>
              <a:ext cx="231840" cy="82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13520" y="2966040"/>
              <a:ext cx="319680" cy="823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10640" y="272556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14640" y="2742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8233200" y="3548880"/>
              <a:ext cx="181440" cy="24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3840" y="3074400"/>
              <a:ext cx="212040" cy="474480"/>
            </a:xfrm>
            <a:prstGeom prst="rect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84440" y="3217680"/>
              <a:ext cx="1609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5743440" y="2133720"/>
            <a:ext cx="2086200" cy="96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5800320" y="2333520"/>
            <a:ext cx="1971720" cy="90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734080" y="3505320"/>
            <a:ext cx="2047680" cy="109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810400" y="3629160"/>
            <a:ext cx="2047680" cy="113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87000" y="5218200"/>
            <a:ext cx="139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vig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422000">
            <a:off x="6119280" y="229392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9906800">
            <a:off x="5910120" y="378900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411200">
            <a:off x="5914440" y="274140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9861800">
            <a:off x="6095160" y="412272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–-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is a comment.  It can span multiple lines.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 --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XML Synta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XML files/applications must conform to basic XML synta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declaration is not required (but recommende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=“1.0”?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dangered_species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ame&gt;Tiger&lt;/nam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dangered_species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XML Synta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and only one root el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“1.0”?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angered_species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ame&gt;Tiger&lt;/nam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angered_species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XML Synta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lanced and matched opening/closing ta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“1.0”?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endangered_species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name&gt;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Tiger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/nam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picture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ename=“tiger.jpg”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/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endangered_species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XML Synta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-sensi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me&gt;Tiger&lt;/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m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ue of attribute must be in quo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icture filename=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tiger.jpg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/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r-Defined XML 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basic synt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attern of all XML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say about “structure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ed basic syntax =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well-formed docu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-Defined XM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“tags” and “attributes” are allo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ed “structure” =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id docu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ser and DT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29000" y="3048120"/>
            <a:ext cx="2590920" cy="129528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XM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57400" y="36576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57200" y="33526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019920" y="37339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391520" y="35053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/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4648320" y="44197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91120" y="5486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867280" y="2286000"/>
            <a:ext cx="2743200" cy="609480"/>
          </a:xfr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heck input using basic syntax and D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TD S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endangered_species (animal*)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animal(name+, threats, weight?, length?, source, picture, subspecies+)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name (#PCDATA)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ATTLIST name language (English | Latin)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 PO in EDI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SA*00* *00* *08*61112500TST *01*DEMO WU000003 *970911*1039*U00302000009561*0*P? GS*PO*611125001I*WU000003 *970911*1039*9784*X*003020 ST*850*397822 BEG*00*RE*194743**970911 REF*AH*M109 REF*DP*641 REF*IA*000100685 DTM*010*970918 N1*BY*92*1287 Nl*ST*92*87447 N1*ZZ*992*1287 PO1*1*1*EA*13.33**CB*80211*IZ*364*UP*71837927164l PO1*1*2*EA*13.33**CB*80211*IZ*382*UP*718379271573 PO1*1*3*EA*13.33**CB*80213*IZ*320*UP*718379271497 PO1*1*4*EA*13.33**CB*80215*IZ*360*UP*718379271848 PO1*1*5*EA*13.33**CB*80215*IZ*364*UP*718379271005 CTT*25 SE*36*397822 GE*1*9784 IEA*1*0000095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 PO in XML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 = "1.0"?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urchase-or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o-number&gt;1234&lt;/po-numb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ate&gt;l999-02-08&lt;/date&gt;&lt;time&gt;14:05&lt;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illing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mpany&gt;XMLSolutions&lt;/company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ddress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reet&gt;601 Pennsylvania Ave. NW&lt;/street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ddress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illing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rder items="1" 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ference&gt;097251&lt;/referen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ription&gt;Widgets&lt;/description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quantity&gt;4&lt;/quantity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nit-price&gt;11.99&lt;/unit-pri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ice&gt;47.96&lt;/pri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tem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r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urchase-order&gt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 flipH="1">
            <a:off x="456840" y="2095560"/>
            <a:ext cx="19080" cy="4152960"/>
          </a:xfrm>
          <a:prstGeom prst="line">
            <a:avLst/>
          </a:prstGeom>
          <a:ln w="1908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5715000"/>
            <a:ext cx="65700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HTTP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4408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se user enters UR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88960" y="2188800"/>
            <a:ext cx="41752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 client initiates TCP connection to HTTP server (process) at www.someSchool.edu on por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365760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 client sends HTTP </a:t>
            </a:r>
            <a:r>
              <a:rPr b="0" i="1" lang="en-US" sz="1800" spc="-1" strike="noStrike">
                <a:solidFill>
                  <a:srgbClr val="669999"/>
                </a:solidFill>
                <a:latin typeface="Arial"/>
                <a:ea typeface="Arial"/>
              </a:rPr>
              <a:t>request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containing URL) into TCP connection socket.  Message indicates that client wants object someDepartment/home.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HTTP server at host www.someSchool.edu waiting for TCP connection at port 80.  “accepts” connection, notifying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00600" y="4191120"/>
            <a:ext cx="38098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 server receives request message, forms </a:t>
            </a:r>
            <a:r>
              <a:rPr b="0" i="1" lang="en-US" sz="1800" spc="-1" strike="noStrike">
                <a:solidFill>
                  <a:srgbClr val="669999"/>
                </a:solidFill>
                <a:latin typeface="Arial"/>
                <a:ea typeface="Arial"/>
              </a:rPr>
              <a:t>response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ing requested object, and sends message into its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4343400"/>
            <a:ext cx="109512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962520" y="5410080"/>
            <a:ext cx="109512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06000" y="56386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962520" y="3276720"/>
            <a:ext cx="109512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 Infrastructure par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protocol: HT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page generating mechanis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data forma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 Kurose and K. Ros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uter Networking: A Top-Down Approach Featuring the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ition, Addison Wesley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Sokol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EDI to Electronic Commerce: A Business Initi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cGraw-Hill, 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Johnson, “XML for the absolute beginner 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va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pril 1999, 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javaworld.com/javaworld/jw-04-1999/jw-04-xml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3C, “XML Tutorial”,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w3schools.com/xml/default.as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Hall and L. Brown, “Introduction to XML”, 2001,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www.corewebprogramming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HTTP (cont.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33200" y="2538000"/>
            <a:ext cx="403380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66680" y="396252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s 1-5 repeated for each of 10 jpeg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013360" y="188604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 server closes TCP conn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23800" y="1913040"/>
            <a:ext cx="0" cy="2571480"/>
          </a:xfrm>
          <a:prstGeom prst="line">
            <a:avLst/>
          </a:prstGeom>
          <a:ln w="1908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5840" y="3913200"/>
            <a:ext cx="342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05920" y="38178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742920" y="184320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TTP request messag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types of HTTP messages: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request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TTP request messa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65000" y="3124080"/>
            <a:ext cx="7693200" cy="2945520"/>
            <a:chOff x="765000" y="3124080"/>
            <a:chExt cx="7693200" cy="2945520"/>
          </a:xfrm>
        </p:grpSpPr>
        <p:sp>
          <p:nvSpPr>
            <p:cNvPr id="450" name=""/>
            <p:cNvSpPr/>
            <p:nvPr/>
          </p:nvSpPr>
          <p:spPr>
            <a:xfrm>
              <a:off x="2895480" y="3200400"/>
              <a:ext cx="5562720" cy="274320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92640" y="3446640"/>
              <a:ext cx="49050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GET /somedir/page.html HTTP/1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ost: www.someschool.edu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User-agent: Mozilla/4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nnection: clo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ccept-language:f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extra carriage return, line feed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5000" y="3124080"/>
              <a:ext cx="207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request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(GET, POS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HEAD command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05240" y="3316320"/>
              <a:ext cx="923760" cy="25704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09920" y="3754440"/>
              <a:ext cx="227160" cy="1311120"/>
            </a:xfrm>
            <a:custGeom>
              <a:avLst/>
              <a:gdLst/>
              <a:ahLst/>
              <a:rect l="l" t="t" r="r" b="b"/>
              <a:pathLst>
                <a:path w="150" h="924">
                  <a:moveTo>
                    <a:pt x="122" y="6"/>
                  </a:moveTo>
                  <a:lnTo>
                    <a:pt x="0" y="0"/>
                  </a:lnTo>
                  <a:lnTo>
                    <a:pt x="0" y="924"/>
                  </a:lnTo>
                  <a:lnTo>
                    <a:pt x="150" y="918"/>
                  </a:lnTo>
                </a:path>
              </a:pathLst>
            </a:custGeom>
            <a:noFill/>
            <a:ln w="1908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23960" y="4276800"/>
              <a:ext cx="88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523960" y="5325840"/>
              <a:ext cx="1028880" cy="16164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50680" y="4878360"/>
              <a:ext cx="184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Carriage return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line fe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indicates e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of mess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HTTP request message: general format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5117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TTP response messag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6040" y="1828800"/>
            <a:ext cx="8112600" cy="3989520"/>
            <a:chOff x="536040" y="1828800"/>
            <a:chExt cx="8112600" cy="3989520"/>
          </a:xfrm>
        </p:grpSpPr>
        <p:sp>
          <p:nvSpPr>
            <p:cNvPr id="462" name=""/>
            <p:cNvSpPr/>
            <p:nvPr/>
          </p:nvSpPr>
          <p:spPr>
            <a:xfrm>
              <a:off x="2446200" y="2160720"/>
              <a:ext cx="6172200" cy="365760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29240" y="2389320"/>
              <a:ext cx="581940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TTP/1.1 200 O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nnection cl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ate: Thu, 06 Aug 1998 12:00:15 GM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erver: Apache/1.3.0 (Unix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Last-Modified: Mon, 22 Jun 1998 …..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ntent-Length: 682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ntent-Type: text/ht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ata data data data data ..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36040" y="1828800"/>
              <a:ext cx="162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status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(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status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status phras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41480" y="2316240"/>
              <a:ext cx="924120" cy="25704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41760" y="2751120"/>
              <a:ext cx="257040" cy="1859040"/>
            </a:xfrm>
            <a:custGeom>
              <a:avLst/>
              <a:gdLst/>
              <a:ahLst/>
              <a:rect l="l" t="t" r="r" b="b"/>
              <a:pathLst>
                <a:path w="162" h="1428">
                  <a:moveTo>
                    <a:pt x="132" y="9"/>
                  </a:moveTo>
                  <a:lnTo>
                    <a:pt x="0" y="0"/>
                  </a:lnTo>
                  <a:lnTo>
                    <a:pt x="0" y="1428"/>
                  </a:lnTo>
                  <a:lnTo>
                    <a:pt x="162" y="1425"/>
                  </a:lnTo>
                </a:path>
              </a:pathLst>
            </a:custGeom>
            <a:noFill/>
            <a:ln w="1908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69760" y="3438360"/>
              <a:ext cx="88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1836720" y="4783320"/>
              <a:ext cx="923760" cy="25704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5120" y="4781520"/>
              <a:ext cx="126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data, e.g.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reques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99"/>
                  </a:solidFill>
                  <a:latin typeface="Arial"/>
                </a:rPr>
                <a:t>HTML 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07:23:22Z</dcterms:created>
  <dc:creator>Natawut</dc:creator>
  <dc:description/>
  <dc:language>en-US</dc:language>
  <cp:lastModifiedBy>Natawut Nupairoj</cp:lastModifiedBy>
  <dcterms:modified xsi:type="dcterms:W3CDTF">2003-07-06T15:55:18Z</dcterms:modified>
  <cp:revision>30</cp:revision>
  <dc:subject/>
  <dc:title>Net-Centric Computing Overview</dc:title>
</cp:coreProperties>
</file>